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A91-234B-4525-95AA-459B61C9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A75-94C1-4F76-8464-B7A824FD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F36-E4A1-43CC-902F-D5C5AB2E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77C-26D3-45BA-AFF0-711EC8AA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3665-11AE-4ADD-B5BA-8B9ADCD8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9219-D74A-4BFA-89C2-08C03FB6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0987-EB1B-4018-8EEA-345F190C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21B3-BB71-4F63-8275-B7062EED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92B0-B135-437A-8C44-F4A04C86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0752-6437-4A04-8D7B-FFE8343F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9A0F-E4DA-4161-90FA-BB2A4828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FE0-604D-473A-AC42-D2CB9A99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4D6F-D131-4F06-977D-FE77C16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2335-CE78-4BE0-B276-156D236A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749B-0630-4344-A0F6-27892EA2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0672-BEE8-4FFA-AFF7-33E8E4A5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7965-9EEC-485F-BDEA-6879D08A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220-563C-424F-9DE0-7B3D1C67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586-184B-4E91-8357-DCE9C754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DCB-0920-493C-8D95-21033851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771-6964-4AFA-9F0C-77776F6B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4AA-FD9B-4757-8D24-948B115F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634-0717-4A6F-841C-3341E08A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D72-FEC4-4C11-969F-EA4AF46C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BA5A-C136-48B0-8D7A-6CAF14820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9719-03A8-4959-BA9C-6B35ADF6B0D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8910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deralism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vision of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1640" y="5662440"/>
            <a:ext cx="7553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pter 4, Section 1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merican government-Marotz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33520" y="1676520"/>
            <a:ext cx="807696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447920" y="1523880"/>
            <a:ext cx="60958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nied Both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h States and National have been denied these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olate rights of citize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AutoShape 11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33520" y="1855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AutoShape 13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Text Box 19"/>
          <p:cNvSpPr/>
          <p:nvPr/>
        </p:nvSpPr>
        <p:spPr>
          <a:xfrm rot="20140800">
            <a:off x="74160" y="1295280"/>
            <a:ext cx="24382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c1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XCLUSIV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9"/>
          <p:cNvGrpSpPr/>
          <p:nvPr/>
        </p:nvGrpSpPr>
        <p:grpSpPr>
          <a:xfrm>
            <a:off x="2438280" y="838080"/>
            <a:ext cx="4343400" cy="2498760"/>
            <a:chOff x="2438280" y="838080"/>
            <a:chExt cx="4343400" cy="2498760"/>
          </a:xfrm>
        </p:grpSpPr>
        <p:pic>
          <p:nvPicPr>
            <p:cNvPr id="182" name="Picture 22" descr=""/>
            <p:cNvPicPr/>
            <p:nvPr/>
          </p:nvPicPr>
          <p:blipFill>
            <a:blip r:embed="rId1"/>
            <a:stretch/>
          </p:blipFill>
          <p:spPr>
            <a:xfrm>
              <a:off x="3200400" y="914400"/>
              <a:ext cx="2514600" cy="24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3" descr=""/>
            <p:cNvPicPr/>
            <p:nvPr/>
          </p:nvPicPr>
          <p:blipFill>
            <a:blip r:embed="rId2"/>
            <a:stretch/>
          </p:blipFill>
          <p:spPr>
            <a:xfrm>
              <a:off x="6019920" y="1447920"/>
              <a:ext cx="7617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4" descr=""/>
            <p:cNvPicPr/>
            <p:nvPr/>
          </p:nvPicPr>
          <p:blipFill>
            <a:blip r:embed="rId3"/>
            <a:stretch/>
          </p:blipFill>
          <p:spPr>
            <a:xfrm>
              <a:off x="2438280" y="13716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5" descr=""/>
            <p:cNvPicPr/>
            <p:nvPr/>
          </p:nvPicPr>
          <p:blipFill>
            <a:blip r:embed="rId4"/>
            <a:stretch/>
          </p:blipFill>
          <p:spPr>
            <a:xfrm>
              <a:off x="2895480" y="2209680"/>
              <a:ext cx="76212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6" descr=""/>
            <p:cNvPicPr/>
            <p:nvPr/>
          </p:nvPicPr>
          <p:blipFill>
            <a:blip r:embed="rId5"/>
            <a:stretch/>
          </p:blipFill>
          <p:spPr>
            <a:xfrm>
              <a:off x="5410080" y="22860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7" descr=""/>
            <p:cNvPicPr/>
            <p:nvPr/>
          </p:nvPicPr>
          <p:blipFill>
            <a:blip r:embed="rId6"/>
            <a:stretch/>
          </p:blipFill>
          <p:spPr>
            <a:xfrm>
              <a:off x="4952880" y="9144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8" descr=""/>
            <p:cNvPicPr/>
            <p:nvPr/>
          </p:nvPicPr>
          <p:blipFill>
            <a:blip r:embed="rId7"/>
            <a:stretch/>
          </p:blipFill>
          <p:spPr>
            <a:xfrm>
              <a:off x="3429000" y="838080"/>
              <a:ext cx="762120" cy="73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upremacy Clause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rticle VI, Section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52680" y="5943600"/>
            <a:ext cx="2210040" cy="642600"/>
          </a:xfrm>
          <a:prstGeom prst="rect">
            <a:avLst/>
          </a:prstGeom>
          <a:solidFill>
            <a:srgbClr val="ff151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ty and County Law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91" name="Group 15"/>
          <p:cNvGrpSpPr/>
          <p:nvPr/>
        </p:nvGrpSpPr>
        <p:grpSpPr>
          <a:xfrm>
            <a:off x="3352680" y="4876920"/>
            <a:ext cx="2210040" cy="1066680"/>
            <a:chOff x="3352680" y="4876920"/>
            <a:chExt cx="2210040" cy="1066680"/>
          </a:xfrm>
        </p:grpSpPr>
        <p:sp>
          <p:nvSpPr>
            <p:cNvPr id="192" name="Text Box 6"/>
            <p:cNvSpPr/>
            <p:nvPr/>
          </p:nvSpPr>
          <p:spPr>
            <a:xfrm>
              <a:off x="3352680" y="4876920"/>
              <a:ext cx="2210040" cy="642600"/>
            </a:xfrm>
            <a:prstGeom prst="rect">
              <a:avLst/>
            </a:prstGeom>
            <a:solidFill>
              <a:srgbClr val="ff1515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ate Statues (laws)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962520" y="548640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94" name="Group 16"/>
          <p:cNvGrpSpPr/>
          <p:nvPr/>
        </p:nvGrpSpPr>
        <p:grpSpPr>
          <a:xfrm>
            <a:off x="3352680" y="3962520"/>
            <a:ext cx="2210040" cy="914400"/>
            <a:chOff x="3352680" y="3962520"/>
            <a:chExt cx="2210040" cy="914400"/>
          </a:xfrm>
        </p:grpSpPr>
        <p:sp>
          <p:nvSpPr>
            <p:cNvPr id="195" name="Text Box 7"/>
            <p:cNvSpPr/>
            <p:nvPr/>
          </p:nvSpPr>
          <p:spPr>
            <a:xfrm>
              <a:off x="3352680" y="3962520"/>
              <a:ext cx="2210040" cy="642600"/>
            </a:xfrm>
            <a:prstGeom prst="rect">
              <a:avLst/>
            </a:prstGeom>
            <a:solidFill>
              <a:srgbClr val="ff1515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ate Constitutions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6" name="AutoShape 12"/>
            <p:cNvSpPr/>
            <p:nvPr/>
          </p:nvSpPr>
          <p:spPr>
            <a:xfrm>
              <a:off x="3962520" y="441972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97" name="Group 17"/>
          <p:cNvGrpSpPr/>
          <p:nvPr/>
        </p:nvGrpSpPr>
        <p:grpSpPr>
          <a:xfrm>
            <a:off x="3352680" y="2971800"/>
            <a:ext cx="2210040" cy="990720"/>
            <a:chOff x="3352680" y="2971800"/>
            <a:chExt cx="2210040" cy="990720"/>
          </a:xfrm>
        </p:grpSpPr>
        <p:sp>
          <p:nvSpPr>
            <p:cNvPr id="198" name="Text Box 8"/>
            <p:cNvSpPr/>
            <p:nvPr/>
          </p:nvSpPr>
          <p:spPr>
            <a:xfrm>
              <a:off x="3352680" y="2971800"/>
              <a:ext cx="2210040" cy="368280"/>
            </a:xfrm>
            <a:prstGeom prst="rect">
              <a:avLst/>
            </a:prstGeom>
            <a:solidFill>
              <a:srgbClr val="381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cts of Congress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9" name="AutoShape 13"/>
            <p:cNvSpPr/>
            <p:nvPr/>
          </p:nvSpPr>
          <p:spPr>
            <a:xfrm>
              <a:off x="3962520" y="350532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3352680" y="1828800"/>
            <a:ext cx="2210040" cy="1143000"/>
            <a:chOff x="3352680" y="1828800"/>
            <a:chExt cx="2210040" cy="1143000"/>
          </a:xfrm>
        </p:grpSpPr>
        <p:sp>
          <p:nvSpPr>
            <p:cNvPr id="201" name="Text Box 9"/>
            <p:cNvSpPr/>
            <p:nvPr/>
          </p:nvSpPr>
          <p:spPr>
            <a:xfrm>
              <a:off x="3352680" y="1828800"/>
              <a:ext cx="2210040" cy="642600"/>
            </a:xfrm>
            <a:prstGeom prst="rect">
              <a:avLst/>
            </a:prstGeom>
            <a:solidFill>
              <a:srgbClr val="381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United States Constitution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2" name="AutoShape 14"/>
            <p:cNvSpPr/>
            <p:nvPr/>
          </p:nvSpPr>
          <p:spPr>
            <a:xfrm>
              <a:off x="3962520" y="251460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03" name="Text Box 19"/>
          <p:cNvSpPr/>
          <p:nvPr/>
        </p:nvSpPr>
        <p:spPr>
          <a:xfrm>
            <a:off x="5562720" y="22860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The U.S. Constitution is the </a:t>
            </a:r>
            <a:r>
              <a:rPr b="1" lang="ja-JP" sz="3600" spc="-1" strike="noStrike">
                <a:solidFill>
                  <a:srgbClr val="ff1515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1515"/>
                </a:solidFill>
                <a:latin typeface="Verdana"/>
              </a:rPr>
              <a:t>Supreme Law of the Land.</a:t>
            </a:r>
            <a:r>
              <a:rPr b="1" lang="ja-JP" sz="3600" spc="-1" strike="noStrike">
                <a:solidFill>
                  <a:srgbClr val="ff1515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85800" y="281952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f there is a conflict between a lower law and a higher one, the higher one </a:t>
            </a: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wins.</a:t>
            </a: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AutoShape 12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533520" y="1855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AutoShape 14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AutoShape 11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5562720" y="2057400"/>
            <a:ext cx="31240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xpress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pelled out in the Constitu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ticle I, Section 18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18 clauses giving 27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Tax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Coin mone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Regulate trad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Declare wa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Grant pat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AutoShape 7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562720" y="2057400"/>
            <a:ext cx="3124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mpli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ot written in Constitution, but reasonably suggest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ticle I, Section 18, Clause 18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ecessary and proper</a:t>
            </a: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he Elastic Clau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Build dam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Highways &amp; road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Determine crim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AutoShape 7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562720" y="2057400"/>
            <a:ext cx="3124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nherent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ot written in Constitution, but belong to national governm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gulate immigr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ant diplomatic recognition to na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tect the n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914400" y="4114800"/>
            <a:ext cx="4343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562720" y="2057400"/>
            <a:ext cx="3352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ni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Expressly denie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fringe on rights (speech, press, etc.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Silence in Constitution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nly has 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Denied in Federal System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n</a:t>
            </a: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 tax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657600" y="4114800"/>
            <a:ext cx="4495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AutoShape 13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28600" y="2133720"/>
            <a:ext cx="312408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Reserved Power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Not granted to Federal, but not denied to states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Legal marriage ag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Drinking ag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Professional licen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Confiscate propert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The power of the state to protect and promote public health, the public morals, the public safety, and the general welfare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3657600" y="4114800"/>
            <a:ext cx="4495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28600" y="2133720"/>
            <a:ext cx="37339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Denied State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Constitution denies certain powers to state, because they are NOT a federal governmen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Make treatie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Print mone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Deny rights to citize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533520" y="4114800"/>
            <a:ext cx="807696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47920" y="4191120"/>
            <a:ext cx="6095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urrent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h States and National have these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y be exercised separately and simultaneousl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lect tax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 crim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emn or take private property for public u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3:07:27Z</dcterms:created>
  <dc:creator>davidm</dc:creator>
  <dc:description/>
  <dc:language>en-US</dc:language>
  <cp:lastModifiedBy>olsonl olson</cp:lastModifiedBy>
  <dcterms:modified xsi:type="dcterms:W3CDTF">2016-04-12T18:57:43Z</dcterms:modified>
  <cp:revision>5</cp:revision>
  <dc:subject/>
  <dc:title>Federalism</dc:title>
</cp:coreProperties>
</file>